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CB01-B810-4392-8BBA-5FD7CF972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09C1-6387-464D-964A-179A46807E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C4C9-4A52-4AAC-AE98-DBBA5D9B30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286F-81D4-4A55-B171-B9955010E7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C342-1D18-4D81-A131-87DF65D6AC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A878-DEDD-462A-BE4A-E2498BBCE5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E900-173C-414D-A95A-19791B02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E961-31CD-4C6D-AB1D-2D2D4B5E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D0B0-182C-4B45-AE73-76E12A74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2328-C1C7-4633-8768-C2DB0B62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9523-0602-4744-8AEB-6ED4AE36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B21E-D445-42F2-9D8C-DA49043A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3247-6CFE-4EBB-A3F4-09DA6CE5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3F4D-BADB-4FCB-8A6E-7CD43BE8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A77B-F676-41D6-9F78-6011C12A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AA81-57A9-4040-9B4D-FB6DF738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7861-DC3B-4D3F-BA17-7BAAC4BD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5795-556B-4410-B020-A7826B92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1644-4E6D-4EF5-BA34-7A20E077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6874-880B-410C-986F-9F13558F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CC58-F088-4CC6-A01F-5F29384C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5316-F704-4264-9E8B-42F9BA7B4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83BA-2264-477F-9EEB-8A23FC25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FDC26-D07A-4EA4-AF47-D75C3BE0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AFAF7-F69A-432A-8432-0E28F0FC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A623F-A5C1-40B9-A70E-48B0AED2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1F19F-4A0B-469B-BD79-57AF1843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1C017-AC23-4D78-9DC6-65981499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A020-F0D3-45DD-90FD-F12C81EE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D4531-6B5F-4045-948F-A2B05F56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B6240-0FF8-423C-B0A9-0399A4F4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E03D3-DE91-405F-AFBE-8FF78657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7FA73-09A2-4732-83A4-8B4D29B5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32D29-A502-499C-A591-42097ED8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F1D42-D833-40AF-B25D-4DFD9479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E5440-CD03-4BD0-A94B-DAA9DC9D1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846E8-2308-4966-9E16-1CE156E7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5BCE4-136D-491B-B940-5E9B733F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3C695-00B9-4B1B-A531-F447C3AD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DC27-A1DB-49A5-A6E5-DFCB5616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45CDF-4FCD-442E-B421-8ECB7F5F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C7E09-3FAE-4CFD-B8EC-A7A93C51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73A8F-6F49-4F06-9F61-7BFB33E2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50B49-26FE-482F-9C8A-49DC2D7E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11DAA-DF30-42C8-9BE3-3773E189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881AF-7138-4FBF-9BA7-EAB1168B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C1B22-3DF2-4F06-838C-80D421A4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0C994-9B69-4A01-82B9-426E6847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FDAC9-941F-4B16-B48E-87E7D065B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FDDC-C102-455C-8351-BB5D1EAB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0462-2A0A-4D72-8EFA-4A11CE28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0AA0-7F87-43DE-86A2-DC079386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A662-1BA2-4A5B-B015-8D3B518D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DA17-0F80-4CB4-BD37-FBC12388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D7F9-8D4A-4A3E-87B9-86A6E4E8988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CFAF-51B2-4B18-8287-0423B09A3E8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1639-F272-4EEB-ACC4-85563D9CE3B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D081-C761-4074-BD5D-8F82E22EBF4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mailto:jhoover@burlesonisd.net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earsonsuccessnet.com/" TargetMode="External"/><Relationship Id="rId2" Type="http://schemas.openxmlformats.org/officeDocument/2006/relationships/hyperlink" Target="http://glencoe.com/sites/texas/teacher/mathematics/index.html" TargetMode="External"/><Relationship Id="rId3" Type="http://schemas.openxmlformats.org/officeDocument/2006/relationships/hyperlink" Target="http://www.classzone.com/cz/index.htm" TargetMode="External"/><Relationship Id="rId4" Type="http://schemas.openxmlformats.org/officeDocument/2006/relationships/hyperlink" Target="http://math.com/" TargetMode="External"/><Relationship Id="rId5" Type="http://schemas.openxmlformats.org/officeDocument/2006/relationships/hyperlink" Target="http://www.hotmath.com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ath, Internet, Techn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Jana Hoover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Burleson High School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jhoover@burlesonisd.net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kype name: burlesonbusiness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Math</a:t>
            </a:r>
            <a:br>
              <a:rPr sz="32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Resources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200400" cy="46911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erif"/>
              </a:rPr>
              <a:t>Prentice Hal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erif"/>
              </a:rPr>
              <a:t>Pearson Successne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erif"/>
              </a:rPr>
              <a:t>Glencoe (McGrawHill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erif"/>
              </a:rPr>
              <a:t>McDougal Littel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erif"/>
              </a:rPr>
              <a:t>ClassZone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erif"/>
              </a:rPr>
              <a:t>Math.co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erif"/>
              </a:rPr>
              <a:t>Hotmath.co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ublishers are provi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nline text book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hockwave Vide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ipulative Apple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90000"/>
              </a:lnSpc>
              <a:spcBef>
                <a:spcPts val="55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Pears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90000"/>
              </a:lnSpc>
              <a:spcBef>
                <a:spcPts val="55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Glencoe/McGrawHil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90000"/>
              </a:lnSpc>
              <a:spcBef>
                <a:spcPts val="55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McDougal Littel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ther Hel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www.math.co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www.hotmath.co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Internet</a:t>
            </a:r>
            <a:br>
              <a:rPr sz="32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Resourc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MOOD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N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KYP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WIKISPA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BLO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Teacher Tub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odular Objective Oriented Distance Learning Environmen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ocial Network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hat and VOIP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eacher Pag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IKI – Faster Fast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mment in Lin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echnology</a:t>
            </a:r>
            <a:br>
              <a:rPr sz="32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Resourc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MART Boa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Tablet P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Projec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Digital Camer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iPo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GIM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MP3 Record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Laptops  or Comput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teractive Technolog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resentatio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udents more involved in learn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udio learn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-teach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hoto Edit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tios, slope, parabolas, shap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Interactive Icon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Leave a voice message for your students using VOKI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Placeholder 9" descr="ning.jpg"/>
          <p:cNvPicPr/>
          <p:nvPr/>
        </p:nvPicPr>
        <p:blipFill>
          <a:blip r:embed="rId1"/>
          <a:srcRect l="27862" t="0" r="27862" b="0"/>
          <a:stretch/>
        </p:blipFill>
        <p:spPr>
          <a:xfrm rot="420000">
            <a:off x="3404880" y="1236240"/>
            <a:ext cx="4753080" cy="384012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01:00:29Z</dcterms:created>
  <dc:creator>JHoover</dc:creator>
  <dc:description/>
  <dc:language>en-US</dc:language>
  <cp:lastModifiedBy>JHoover</cp:lastModifiedBy>
  <dcterms:modified xsi:type="dcterms:W3CDTF">2007-10-17T16:24:28Z</dcterms:modified>
  <cp:revision>3</cp:revision>
  <dc:subject/>
  <dc:title>M I T</dc:title>
</cp:coreProperties>
</file>