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9CDC-DF62-4975-A034-B03FFD1B6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CA44-811E-422E-B1C6-D53D83FBB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1977-7112-49F1-BC94-21C2B8F81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8773-D97E-412F-B6EA-7EAD0B6D3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09E2-6776-46CA-A151-BDB28D69F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10F7-D4D3-4B9B-A0D7-CA2D71A45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1A6-3322-443F-95C3-FCA16412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C2C-C453-46BC-AB21-5D06A569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287-5C0C-4B9A-B8B0-D03FEE76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73F-530C-466E-9ADC-56708124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69B1-0FE5-4CC2-B3A8-7696A606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03AF-5598-4C6F-AAA1-C9CE90F5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9D7F-6A82-448D-AF53-298342B8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AD48-6EB9-411E-9EF8-735535A8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1382-A29A-4AA8-8238-C8F2D258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14D8-ABA0-4206-93EA-CD50F603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541F-CD4A-4A58-89F5-06CE3D4E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CDC-B922-4560-85CF-0123FB38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58A3-D62B-42A8-BFDB-5992578F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CCD0-574A-4EF0-B986-255A1E02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5C9F-4C21-4948-8785-8DF2A9E4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591F-C04B-4DB5-867B-5C46CDFF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D36E-BA98-4799-87A3-4A605E05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049FF-EE45-4684-AA6D-3844F949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0B2A-4EB7-49DC-806D-EDC31952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79B9-E98C-4C7E-B3CC-36EE27F0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97EF-3AFD-4531-8B39-656A4127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2D615-F801-4589-B244-85B7B071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DE1-3310-41EE-9AAA-EEDF99E4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1976-B797-4A4E-AD75-A5FBB2FA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24DE-373E-48AA-AA8E-EEEF0454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05BC0-735D-4C7B-9435-830CA39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98AF-A938-4D1E-AD8A-1C6B7E01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CCB7-6BC5-4736-8631-AA78E3C2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3E9A-894E-4BA4-955A-ED61293C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F9EA8-5ECD-44BB-BE00-896632AF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E114-63F2-4478-9DE6-5C0C63E6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24C47-56AF-42F9-A7BC-B0E35A4A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21F68-AD5E-47B1-AEC6-1DB0D3D8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704-14F5-4CEF-88EA-62A27284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98D1-4367-44FB-AF0C-5568682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363F1-7B54-422D-BFC3-61EF480A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4790-90EE-458B-A5E0-C69C085F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45AB0-0583-47F6-B778-9D9F1EB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16DE-CEF2-4D9A-B2A6-2248A027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C23E2-8135-4646-B9FA-918FC30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FEF76-F40F-4A84-A0A6-442D1D05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93E9A-3B0F-46FD-ACA5-8DD64DFA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DEB91-46DA-4310-8EA0-B6248898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14D-9CA5-4157-BFC7-CE660004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BEF-7D8F-4838-9AEF-DD1010BD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6BA-EF57-42AD-A396-B2D8CB76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303-F4EA-4BB7-8DED-D1AD25E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ACF-04CD-43C6-9DB6-81F71612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EBB7-CD0E-4E54-9CFB-9BF79268075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E1D6-77D7-470F-B6C6-869A9824564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A89E-3F83-494E-A425-1B8472E896F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54DA-2255-45FC-8140-90848DDE108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jhoover@burlesonisd.ne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arsonsuccessnet.com/" TargetMode="External"/><Relationship Id="rId2" Type="http://schemas.openxmlformats.org/officeDocument/2006/relationships/hyperlink" Target="http://glencoe.com/sites/texas/teacher/mathematics/index.html" TargetMode="External"/><Relationship Id="rId3" Type="http://schemas.openxmlformats.org/officeDocument/2006/relationships/hyperlink" Target="http://www.classzone.com/cz/index.htm" TargetMode="External"/><Relationship Id="rId4" Type="http://schemas.openxmlformats.org/officeDocument/2006/relationships/hyperlink" Target="http://math.com/" TargetMode="External"/><Relationship Id="rId5" Type="http://schemas.openxmlformats.org/officeDocument/2006/relationships/hyperlink" Target="http://www.hotmath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th, Internet, Techn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Jana Hoove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urleson High Schoo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jhoover@burlesonisd.ne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kype name: burlesonbusines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Math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200400" cy="46911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Prentice Ha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Pearson Success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Glencoe (McGrawHill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McDougal Litt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ClassZone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Math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Hotmath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blishers are provi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line text boo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ckwave Vide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ipulative App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Pears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Glencoe/McGrawHi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McDougal Litt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 He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www.math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www.hotmath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ernet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OOD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WIKISPA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eacher Tub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dular Objective Oriented Distance Learning Environ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t and VOI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acher Pag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KI – Faster Fas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ment in L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echnology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MART Bo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ablet P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Proj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Digital Came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iP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GIM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P3 Rec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Laptops  or Compu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teractive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udents more involved in lear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dio learn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-teach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hoto Edi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ios, slope, parabolas, sha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Interactive Ico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Leave a voice message for your students using VOKI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Placeholder 9" descr="ning.jpg"/>
          <p:cNvPicPr/>
          <p:nvPr/>
        </p:nvPicPr>
        <p:blipFill>
          <a:blip r:embed="rId1"/>
          <a:srcRect l="27862" t="0" r="27862" b="0"/>
          <a:stretch/>
        </p:blipFill>
        <p:spPr>
          <a:xfrm rot="420000">
            <a:off x="3404880" y="1236240"/>
            <a:ext cx="4753080" cy="38401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1:00:29Z</dcterms:created>
  <dc:creator>JHoover</dc:creator>
  <dc:description/>
  <dc:language>en-US</dc:language>
  <cp:lastModifiedBy>JHoover</cp:lastModifiedBy>
  <dcterms:modified xsi:type="dcterms:W3CDTF">2007-10-17T16:24:28Z</dcterms:modified>
  <cp:revision>3</cp:revision>
  <dc:subject/>
  <dc:title>M I T</dc:title>
</cp:coreProperties>
</file>