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22C0-E27C-4BEB-BCD1-3482E1107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2DA6-D3A1-4848-9319-B163EC251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0665-B529-448A-92BA-5493E5E8B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C61A-8317-4737-9AA1-D3C6D9839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C0C3-B6A2-4FA1-9E45-78EFD3C7A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F5E6-FFA7-4955-A53E-ABA85FE5A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E33-4BD8-49B8-A621-396987E5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E13-05D8-43B6-81BF-4A2694B9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2F6-5AA7-45B7-97D9-36BAF934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4E6-AADB-41EB-8A50-DA137EB6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80DA-84AC-4BE6-BA85-60B1B89D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EC85-F902-4E9C-99A0-8A8AAF4C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1101-4470-472D-935D-CEEF3DAB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B72B-3213-4EDD-8709-411C6D25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EE2A-D848-4EA5-ADB6-F3A7561A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8A96-6BE1-4371-AD5C-D296F9F9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2655-094F-40DF-B141-5E35E93A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15E-9CFE-457E-8C0B-5CBA2FAD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2EE8-C7CB-4DF6-B293-B5C55829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0739-D4A7-4A73-A4FE-66788879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7801-C5B9-4DE2-BEC0-40C89AF3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4F24-4961-41CA-9726-B27A5494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D7ED-1B0E-4276-B4C9-77209784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7813A-7AF3-4FF3-942A-E0589DE8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3816-3377-4174-85B9-049822D4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CD387-8754-42F5-B18A-5EBD71D7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BBF14-D23C-49F1-97EC-A72C0130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8703-DA5A-4B54-8D7C-2FE03FB3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1C4-6A65-4D71-93AE-E3D75B1F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BFCC1-4010-4721-949A-320C6BB2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6E0D-F6A1-4AA1-BFAD-0B4F15F5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89FBB-3987-4A21-B1C3-E25F63CE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D42A-512A-49AD-8A14-1EC429F2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FD5A-B56F-42B8-9BCB-2A9962C9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4B74-A3B1-493B-879F-21D3BE54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EB80-CED2-4A60-B6C7-016A39E0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1C670-CB6A-4D76-8A3A-554EFAF6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FF227-EAC6-49B6-BF5C-DA5F7199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5560E-946A-4F3E-9BAF-914126B7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037-3D8A-4559-A784-AA3934AD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20A4-3B76-4C4D-B779-F2DDCB69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11293-930C-48AE-9768-0ACC934F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5A735-0277-4845-95C5-A7A915E6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90950-31B9-46D3-9241-EDCF2B8A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E711A-FD60-43E5-98FA-11B93161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631FE-6235-40BD-A698-F23B705A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9FE8B-1BC7-48ED-824F-AA799D30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59E94-8B64-4C61-AA0F-990ED9CE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2C28B-97C3-482B-A006-1DF180E2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E47-7419-4465-87AC-B4FCD516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228-1BFD-48FD-B7CF-50536D01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F36-1D54-42D0-A4EF-E524CF0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5F5-4CA7-46BC-9029-B41E88FF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BD6-C8D7-4164-BA36-7A273E61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9F25-CE60-4085-86D8-3831A254F49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A34A-1B0C-4398-BB01-F049EF12316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F5A0-B56F-4485-A270-33D400510B0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E174-243A-4470-A750-1E24300FDC0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jhoover@burlesonisd.ne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arsonsuccessnet.com/" TargetMode="External"/><Relationship Id="rId2" Type="http://schemas.openxmlformats.org/officeDocument/2006/relationships/hyperlink" Target="http://glencoe.com/sites/texas/teacher/mathematics/index.html" TargetMode="External"/><Relationship Id="rId3" Type="http://schemas.openxmlformats.org/officeDocument/2006/relationships/hyperlink" Target="http://www.classzone.com/cz/index.htm" TargetMode="External"/><Relationship Id="rId4" Type="http://schemas.openxmlformats.org/officeDocument/2006/relationships/hyperlink" Target="http://math.com/" TargetMode="External"/><Relationship Id="rId5" Type="http://schemas.openxmlformats.org/officeDocument/2006/relationships/hyperlink" Target="http://www.hotmath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th, Internet, Techn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Jana Hoove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urleson High Schoo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jhoover@burlesonisd.ne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kype name: burlesonbusines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Math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200400" cy="46911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Prentice Ha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Pearson Success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Glencoe (McGrawHill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McDougal Litt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ClassZone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Math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Hotmath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blishers are provi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line text boo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ckwave Vide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ipulative App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Pears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Glencoe/McGrawHi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McDougal Litt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 He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www.math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www.hotmath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ernet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OOD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K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WIKISPA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eacher Tub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dular Objective Oriented Distance Learning Environ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cial Network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t and VOI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acher Pag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IKI – Faster Fas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ment in L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echnology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MART Bo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ablet P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Proje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Digital Came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iP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GIM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P3 Rec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Laptops  or Compu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teractive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udents more involved in lear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dio learn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-teach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hoto Edi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ios, slope, parabolas, sha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Interactive Ico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Leave a voice message for your students using VOKI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Placeholder 9" descr="ning.jpg"/>
          <p:cNvPicPr/>
          <p:nvPr/>
        </p:nvPicPr>
        <p:blipFill>
          <a:blip r:embed="rId1"/>
          <a:srcRect l="27862" t="0" r="27862" b="0"/>
          <a:stretch/>
        </p:blipFill>
        <p:spPr>
          <a:xfrm rot="420000">
            <a:off x="3404880" y="1236240"/>
            <a:ext cx="4753080" cy="38401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1:00:29Z</dcterms:created>
  <dc:creator>JHoover</dc:creator>
  <dc:description/>
  <dc:language>en-US</dc:language>
  <cp:lastModifiedBy>JHoover</cp:lastModifiedBy>
  <dcterms:modified xsi:type="dcterms:W3CDTF">2007-10-17T16:24:28Z</dcterms:modified>
  <cp:revision>3</cp:revision>
  <dc:subject/>
  <dc:title>M I T</dc:title>
</cp:coreProperties>
</file>