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99C-5BA1-4BDB-BDB1-0504E7D92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A637-9637-41EA-8C35-D734B7728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6CF7-4347-40FC-9798-012C00065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5705-BF40-476C-B8E4-8CDD6E672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358F-2A8E-4029-B935-EAF4D9C93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1BB6-B3AE-4285-B488-AB8C5DED7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107-7F0E-41FB-B823-E684FD8D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E6A-1EDA-4DFD-ABE1-5DCC97D4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71C-3CED-4C91-B5BA-13A6F7E9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FCE-6614-4834-A65E-9819D8E2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97FE-8BF6-4563-8362-43AF08F7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D4C-3E41-4888-9C54-B001ACE3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6BBC-966F-4C43-A32D-90045117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B543-01E7-4F8D-91D7-26348C19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2613-0778-456B-9BB4-3342C286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B64-1EAF-49AE-A04B-DF8DE8A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2A3D-6F11-4224-9330-B932B21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67B-FA59-4B26-93A5-E4B996CC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A243-F644-436E-96A6-3D060B8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F9FC-7CC8-4CCC-8324-F93BC536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2C2-8E5F-4228-985D-424CAD5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B9BC-A4C1-484B-9DA5-190E1D5C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6018-2E57-4F72-ACD2-B72D3B26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D5E1-CDE5-48D4-BD3C-09646D62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A5E8-FD01-42B0-88B8-FD2231C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88EA-E386-4033-9510-FB49F2D6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56C1-7645-4FCB-AD35-EFBE758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A88A-5B8B-4B4C-B6FF-926F9BF4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001-98B7-4A60-B99B-3F02C59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4AE4-4297-4E7C-8422-1BD246F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DEDA-229A-49AE-9226-BD91288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6157-4FA1-42BD-9CA7-38F428DB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6E2A-2E75-4F31-B057-5710695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7C85-B02F-4941-B1DF-889AA3A1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4077-5A00-407A-B089-40D6469F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BA04-95C5-49E2-B7A2-2D534442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46A8-2B94-43F5-85CF-668DCBC8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D130-81E9-40B2-8C69-DB637AE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533B-F5DB-4544-BB57-24BC3407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684-29F8-41FF-BDBE-18522306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F1FC4-67B5-4363-B760-FA23C1B4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912A-F163-40C5-A21B-8AC938D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1F98-1463-4EDE-97C4-510A16FE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0AA48-7961-4889-B8CF-9A553AC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9C02-9083-4658-B589-583CDEE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CDFD-381E-4900-96C2-EAA9106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EFD5-A784-4A8E-9E5B-450055C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7820-DABA-48B4-8703-9E3A3F63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F1A4-F802-41ED-87AE-6F55AA90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5C9-5C3D-4E44-8E3E-EFE8E5DA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043-8B01-4058-81D5-8BCE6625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93A-6786-4D69-AF7E-A102134D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811-56E2-4BA1-8207-3F72C70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8B1-0081-41A6-8418-517590B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E2D-D95C-4230-9699-CBD56E54D9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91D7-46A0-401A-B0B3-BEAA2584F1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BB3-3873-4B06-925F-B4A0ADB353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8EBF-6789-4C77-AF3F-A58FB06B9FE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jhoover@burlesonisd.ne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earsonsuccessnet.com/" TargetMode="External"/><Relationship Id="rId2" Type="http://schemas.openxmlformats.org/officeDocument/2006/relationships/hyperlink" Target="http://glencoe.com/sites/texas/teacher/mathematics/index.html" TargetMode="External"/><Relationship Id="rId3" Type="http://schemas.openxmlformats.org/officeDocument/2006/relationships/hyperlink" Target="http://www.classzone.com/cz/index.htm" TargetMode="External"/><Relationship Id="rId4" Type="http://schemas.openxmlformats.org/officeDocument/2006/relationships/hyperlink" Target="http://math.com/" TargetMode="External"/><Relationship Id="rId5" Type="http://schemas.openxmlformats.org/officeDocument/2006/relationships/hyperlink" Target="http://www.hotmath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ath, Internet, Techn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ana Hoove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urleson High Schoo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jhoover@burlesonisd.ne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kype name: burlesonbusines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th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20040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rentice Ha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Pearson Successn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Glencoe (McGrawHill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cDougal Littel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ClassZone-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erif"/>
              </a:rPr>
              <a:t>Hotmath.c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blishers are provi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line text boo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ckwave Vide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ipulative Appl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Pears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Glencoe/McGrawHi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5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McDougal Littel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www.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ww.hotmath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et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WIKISP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eacher Tu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dular Objective Oriented Distance Learning Environ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t and VOI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er Pag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IKI – Faster Fast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mment in 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echnology</a:t>
            </a:r>
            <a:br>
              <a:rPr sz="32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MART Bo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ablet P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Projec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Digital Came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iP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GI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MP3 Recor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Laptops  or Comput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Technolo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udents more involved in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dio learn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-teach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hoto Edit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ios, slope, parabolas, sha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Interactive Icon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Leave a voice message for your students using VOKI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Placeholder 9" descr="ning.jpg"/>
          <p:cNvPicPr/>
          <p:nvPr/>
        </p:nvPicPr>
        <p:blipFill>
          <a:blip r:embed="rId1"/>
          <a:srcRect l="27862" t="0" r="27862" b="0"/>
          <a:stretch/>
        </p:blipFill>
        <p:spPr>
          <a:xfrm rot="420000">
            <a:off x="3404880" y="1236240"/>
            <a:ext cx="4753080" cy="38401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1:00:29Z</dcterms:created>
  <dc:creator>JHoover</dc:creator>
  <dc:description/>
  <dc:language>en-US</dc:language>
  <cp:lastModifiedBy>JHoover</cp:lastModifiedBy>
  <dcterms:modified xsi:type="dcterms:W3CDTF">2007-10-17T16:24:28Z</dcterms:modified>
  <cp:revision>3</cp:revision>
  <dc:subject/>
  <dc:title>M I T</dc:title>
</cp:coreProperties>
</file>